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B89BD-B70C-442E-9049-0C2A44B0EBCA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8B94A-78BC-41F6-9C1A-27E1E0D2EC0E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43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Viticultura e Enologia</a:t>
            </a:r>
            <a:br>
              <a:rPr sz="3200"/>
            </a:b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Agricultura Biológic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030937"/>
                </a:solidFill>
                <a:latin typeface="Arial"/>
              </a:rPr>
              <a:t>Vítor Figueiredo</a:t>
            </a:r>
            <a:br>
              <a:rPr sz="2800"/>
            </a:br>
            <a:r>
              <a:rPr b="1" lang="pt-PT" sz="2800" spc="-1" strike="noStrike">
                <a:solidFill>
                  <a:srgbClr val="0000a4"/>
                </a:solidFill>
                <a:latin typeface="Arial"/>
              </a:rPr>
              <a:t>vfigueiredo@esav.ipv.pt – 962 349 887</a:t>
            </a:r>
            <a:br>
              <a:rPr sz="2800"/>
            </a:br>
            <a:br>
              <a:rPr sz="2800"/>
            </a:br>
            <a:r>
              <a:rPr b="1" lang="pt-PT" sz="2000" spc="-1" strike="noStrike">
                <a:solidFill>
                  <a:srgbClr val="0000a4"/>
                </a:solidFill>
                <a:latin typeface="Arial"/>
              </a:rPr>
              <a:t>ESAV-IPV.</a:t>
            </a:r>
            <a:endParaRPr b="1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2920" y="2060640"/>
          <a:ext cx="7134120" cy="2281320"/>
        </p:xfrm>
        <a:graphic>
          <a:graphicData uri="http://schemas.openxmlformats.org/drawingml/2006/table">
            <a:tbl>
              <a:tblPr/>
              <a:tblGrid>
                <a:gridCol w="2116080"/>
                <a:gridCol w="5018040"/>
              </a:tblGrid>
              <a:tr h="97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Unidade Curricu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canização da Vi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Créditos/hora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4 ECTS – 45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4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º ano 2º semestre – 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mo se mede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área de exploração agrícol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ncabeça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dimensão económic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potência de um tra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0920" y="188640"/>
            <a:ext cx="8310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de medi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cv = 0,736 kW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kW = 1,36 cv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cavalo vapor =» 0,73 Kw; 30 cv =» 22,06 Kw (potência)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 1 hp = 745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0,987 HP 1 W = 0,001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735,7 W 1 kW = 1,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W = 0,00136 cv 1 cv = 0,7355 (0,736) k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kW = 1,3596 (1,36) cv 1 kW = 1000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hectare = 10.000 m2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guilhada = 540 m2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pipa = 550 litros (Douro); 500 litros (Pinhel)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mude = 20 litros (Ferreira a Nova); 25 l (Castendo; Bodiosa) ; 27 l (Tondela e Mangualde); 30 l (Rio de Moinhos) outras regiões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queire = 11 kg (Bodiosa); 11,50 kg (Ferreira a Nova); 12,5 kg a 13 kg (Moimenta e Aguiar da Beira)-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Rasa (metade do alqueire=6,5 kg, Vilar de Besteiros-Tondela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Uma quarta de alqueire; Seromim (1/8 de alqueire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rroba = 15 kg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bjetiv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68280"/>
            <a:ext cx="902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er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tituição e funcionament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os motores de combustão interna do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trator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grícolas e su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anuten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imentos necessários à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gestão, planeamento e manutenção de parques de máquinas agrícola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presentar e descrever a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e equipamento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tilizados na realização das principais operações culturais (p.e. na vinha) , assim como as suas principai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teúdo programát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125360"/>
            <a:ext cx="8821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motriz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: Ciclos Diesel e Otto. Constituição geral. Transmissão, mecânica e hidráulica. Sistemas de direção e travagem. Sistemas de ligação com as alfaias. Equipamento elétrico do trator. Órgãos de locomoção. Tipos de tratores agrícol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mobilização sol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de sementeira e de pl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fertilização e de prote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culturas.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polival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de colheita/vindim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ndimento das operações culturais e seleção de parques de máquin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 e calibra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e equipa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dições de admissão a avaliaçã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91592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classificação final (≥ 10,0 valores) é obtida a partir das seguintes avaliações parciais: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Prova escrita teórico-prática = 6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Trabalho prático de dimensionamento e seleção de um parque de equipamentos = 4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condição necessária, para admissão a qualquer época de avaliação,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presença em 2/3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aulas práticas lecionad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presentaçã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valiação diagnóstica / Terminologia agrícol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6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Algumas questões prévias.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 O que signific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660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AU-superfície agrícola úti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temporária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permanente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aldi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N-cabeça norma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P-Sistema de Identificação parcelar? IE (eis P1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lígono de investi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3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edido Ún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484280"/>
            <a:ext cx="8305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m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un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tiní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nác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eito da vinh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a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i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corretivo de acidez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H do sol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ção integra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do de Produção Biológic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rrib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avour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ol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res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do fenológ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nal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agrícol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fitossanitári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r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der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astreabilidad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Globalg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92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IF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RAPC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ção de Aviso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P; Confagri; CNA; AJ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DD; ADDLAP; ADICE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E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DR2020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Jovem agricul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 fitofarmacêut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06T09:02:17Z</cp:lastPrinted>
  <dcterms:modified xsi:type="dcterms:W3CDTF">2017-03-09T18:29:30Z</dcterms:modified>
  <cp:revision>330</cp:revision>
  <dc:subject/>
  <dc:title>Slide 1</dc:title>
</cp:coreProperties>
</file>